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B3FD7-0E50-4DCA-AA76-BC3BF2D08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3F3A-EA56-421F-868B-B99E60BC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FD9E-6D4E-4CC1-AE7A-3959BD0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FDF7-C726-4072-B3CB-4BDE6E78C4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F6D5-BE92-4498-AEB3-6CD8A869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2B8F-FEB2-4D16-A273-35C30CCC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EDE18-2DCD-40BB-93FD-A2A3AA20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530A-A206-4F8C-A0CE-84071B04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DCDC-04F5-43BE-BFF0-52FDF96D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5BFC-1457-4EB2-855D-F72094E6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7276-5916-43DC-B1F8-84DBF6D9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6D3D-EC1C-4A5F-A0AD-8CA092F0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8987-3068-458A-95A5-A7443E3D78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728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的药物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阻滞剂、激素类、降低胆固醇药物以及植物类药物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304560"/>
            <a:ext cx="866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方式有内镜治疗和开放性手术。内镜治疗主要有经尿道前列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urethral resection of prostate,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开放性手术包括耻骨上经膀胱前列腺切除术、耻骨后前列腺切除术和经会阴前列腺切除术。其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激光治疗、经尿道球囊高压扩张术、经尿道高温治疗、体外高强度聚焦超声、前列腺尿道网状支架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468360" y="304560"/>
            <a:ext cx="938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2131920" y="1700280"/>
            <a:ext cx="5104080" cy="3960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4"/>
          <p:cNvSpPr/>
          <p:nvPr/>
        </p:nvSpPr>
        <p:spPr>
          <a:xfrm>
            <a:off x="2124000" y="5807160"/>
            <a:ext cx="632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        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前列腺手术方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耻骨上式；②耻骨后式；③会阴式；④经尿道内镜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明确诊断为良性前列腺增生症，在硬膜外麻醉下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。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回病房后持续膀胱冲洗通畅，冲洗液呈淡红色。术日晚出现烦躁不安，不合作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230/1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红蛋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出现了何种问题？②原因是什么？③如何护理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8447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尿道梗阻、膀胱逼尿肌受损或手术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膀胱痉挛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、尿频、尿失禁、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尿潴留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痉挛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腔气囊导尿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冲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冲洗温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确保冲洗及引流管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、记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U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良性前列腺增生症的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良性前列腺增生症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良性前列腺增生症的辅助检查、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良性前列腺增生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304560"/>
            <a:ext cx="85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康复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功能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我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性生活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门诊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仍未完全清楚。老龄和有功能的睾丸是缺一不可的两个重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是最早期的症状，进行性排尿困难是最典型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是一种老化现象，只有发展为良性前列腺增生症才需要治疗，治疗原则包括药物治疗、非手术介入治疗和手术治疗，其中经尿道前列腺切除术是临床治疗的首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144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良性前列腺增生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要做好心理护理、营养与饮食、急性尿潴留的护理、用药护理和术前准备。术后护理措施包括病情观察、体位、饮食、预防感染、膀胱痉挛的护理、引流管的护理、膀胱冲洗的护理、术后并发症的护理。另外，还要做好健康教育，提高患者的生活质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nign prostatic hyperplasi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简称前列腺增生，亦称良性前列腺肥大，是老年男性的常见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良性前列腺增生症的病因仍未完全清楚。目前一致公认的是老龄和有功能的睾丸两个重要因素，且二者缺一不可。此外，在前列腺内（尤其是围绕膀胱颈部的平滑肌内）含有丰富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体，当这些受体激活时该处平滑肌收缩，是引起排尿困难的又一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2124000" y="1268280"/>
            <a:ext cx="4891320" cy="4511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4"/>
          <p:cNvSpPr/>
          <p:nvPr/>
        </p:nvSpPr>
        <p:spPr>
          <a:xfrm>
            <a:off x="2627280" y="5756400"/>
            <a:ext cx="49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前列腺增生，腺体凸向后尿道和膀胱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排尿困难伴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，尿潴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40/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神志清，表情痛苦。下腹饱满，可触及膨胀的膀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肠指诊：可触及前列腺增大，表面光滑、质韧、有弹性，中间沟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频、尿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尿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、尿失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可触到增大的前列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照腺体增生的程度可分为三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增生时因局部充血、血管破裂发生无痛性血尿。合并感染或结石，有尿频、尿急、尿痛等膀胱刺激症状。长期排尿困难者可引起腹外疝、内痔或脱肛。晚期可出现肾积水和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流动力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前列腺特异性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304560"/>
            <a:ext cx="85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良性前列腺增生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烟酒嗜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排尿或憋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3:33Z</dcterms:modified>
  <cp:revision>114</cp:revision>
  <dc:subject/>
  <dc:title>内科护理学</dc:title>
</cp:coreProperties>
</file>